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B50-E4EA-4648-9239-F4F9F054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9EF-4037-4760-B9B6-8C9588F1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EFC-C637-4D7B-B3B8-1992C9CC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12C-CBA4-4CA3-BCF5-4A56E0E9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2AD-E260-4FF9-938B-2D3451C8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04E-107B-4C4A-8FBA-C3EB7F08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081-C3B8-4701-A218-EF243BA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A26-E72A-4B5B-A919-C8883740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9F8-B1FA-470C-B502-572EEACD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339-70A5-4BD1-B5BF-1F35521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0F5-7605-46A8-9F9B-12E8105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BB3-08B4-4CCD-9D54-87EC388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F6851-0F59-4D87-8D1C-DD91277E2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up d'e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51600" y="2604960"/>
            <a:ext cx="4425840" cy="331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ord meaning an overthrow of a government by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ethnic group in Ni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20960" y="3075120"/>
            <a:ext cx="53942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e Soyi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oruba man who was the first African to receive the Nobel Prize 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2240" y="3017880"/>
            <a:ext cx="2924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-Study for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crossword puzzle and share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Read, Write, Think crossword m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ganization of African Unity, and organization formed in 1963 to promote unity among all Af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49760" y="1828800"/>
            <a:ext cx="322920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find peacefu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11520" y="2994120"/>
            <a:ext cx="534816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W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Community of West Africa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1975 to improve trade within Western Africa and with countries outside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35360" y="4206960"/>
            <a:ext cx="3840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istence F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of in which people grow food mainly to feed their own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17880" y="2922480"/>
            <a:ext cx="3189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 C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p grown to s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35360" y="3094200"/>
            <a:ext cx="3144600" cy="2849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00800" y="252252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06560" y="274320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4297320"/>
            <a:ext cx="12096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te of Pa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al ceremony that marks the transition from one stage of lif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20960" y="2855880"/>
            <a:ext cx="437832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r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thnic group in southwester Ni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78160" y="2851200"/>
            <a:ext cx="392112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thnic group in southeaster Ni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3760" y="2908440"/>
            <a:ext cx="49165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3:20:37Z</dcterms:created>
  <dc:creator>Nicky Stokes</dc:creator>
  <dc:description/>
  <dc:language>en-US</dc:language>
  <cp:lastModifiedBy>Nicky Stokes</cp:lastModifiedBy>
  <dcterms:modified xsi:type="dcterms:W3CDTF">2014-04-24T03:43:45Z</dcterms:modified>
  <cp:revision>2</cp:revision>
  <dc:subject/>
  <dc:title/>
</cp:coreProperties>
</file>